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12E-F804-4364-B398-709D13C9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765-D09B-4CEE-989C-05D655A1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CC7-3DD9-4544-B947-BE736A8C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453-3833-428F-B81E-D4F26660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831-E97C-469C-90DE-C782B506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47A-5CDA-4A3B-B0A4-CEF849EB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6A3-9816-46DD-9428-51EB4711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7D5-FDE0-40E3-85C0-E4525294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3C4-74FE-440A-87B7-746A599E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590-9300-48AD-8D4D-1B08C637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D9B-F845-40C2-9EF7-B8B47C1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07E-DF35-4E98-9862-2980630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6BC1-7765-4721-920F-1491DC62A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ное средство «Демограф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5877000"/>
            <a:ext cx="4064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: студент группы 05 МОС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сонов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цель курсов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программное средство, предоставляющее возможность проводить анализ демографической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ледуемы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414972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понятный и доступны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852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еть и реализовать алгоритм         анализа демографически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создании ПС интегрировать в него базу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44500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язы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работы с базам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– средство для рационального и эффективного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50028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=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65720"/>
            <a:ext cx="82296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БД –ЯМД(языки манипулирования данными)+ СУБД(системы управления базами дан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QL - разработан в 1974 году фирмой IBM для экспериментальной реляционной СУБД System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645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анный мом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язык ба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ональная 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0750" t="18136" r="19369" b="11855"/>
          <a:stretch/>
        </p:blipFill>
        <p:spPr>
          <a:xfrm>
            <a:off x="2771640" y="1773360"/>
            <a:ext cx="37450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1544" t="23073" r="24903" b="40838"/>
          <a:stretch/>
        </p:blipFill>
        <p:spPr>
          <a:xfrm>
            <a:off x="2771640" y="4581360"/>
            <a:ext cx="33829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71640" y="1341360"/>
            <a:ext cx="7427880" cy="5112000"/>
            <a:chOff x="971640" y="1341360"/>
            <a:chExt cx="7427880" cy="51120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971640" y="1341360"/>
              <a:ext cx="742788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971640" y="1341360"/>
              <a:ext cx="742788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проведенной работы, было создано ПС «Демография» и с помощью него была проанализирована демографическая ситу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8:31:44Z</dcterms:created>
  <dc:creator>Константин</dc:creator>
  <dc:description/>
  <dc:language>en-US</dc:language>
  <cp:lastModifiedBy>Константин</cp:lastModifiedBy>
  <dcterms:modified xsi:type="dcterms:W3CDTF">2007-05-31T19:34:15Z</dcterms:modified>
  <cp:revision>20</cp:revision>
  <dc:subject/>
  <dc:title>Программное средство «Демография»</dc:title>
</cp:coreProperties>
</file>